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784-8FDB-415F-9BEC-DDABC22F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721-3178-4902-92A5-AE64B94E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996-014B-4C1C-BE15-7F7417DD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042-29D8-46D7-868E-AC60AF6A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77B-8160-4C4F-BCED-6D4257B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D0C-9C15-4076-8499-3B17E51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384-D816-4E2C-8818-65EF480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9E8-6994-4BBE-BEBC-A27FCD8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FF1-D910-4870-98B1-40AFD214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7F9-8FD2-42EC-9E88-0A494B7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E97-EC4D-4A86-94F3-2EC2EAA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151-CD53-4193-99BE-7576E19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49B-6E98-4A76-98B4-78DC385A88C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56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Education of criminal justice officers in E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Rait Ku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ison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nistry of Justice of Est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Joint main priorities for in-servic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the logic and to use risk-assessment methodology and relate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individual sentence planning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run rehabilitation programmes (f.ex. ART, Equip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Special curriculum for probati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wish to move prison and probation more closer – learning points are on both s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0 first group of probation officers (10) started to study prison matters in the college by special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ing is lasting for 1 year and full salary is p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result those probation officers are able to work in and outside of prison wall in equal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oint trainings with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obation officers more active regards prisoners, flexibility of working in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actice related trainings more and mo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mid term perspective - Probation officers take over the tasks of social welfare departments in p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tructur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obati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ystem of in-servic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fact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844280"/>
            <a:ext cx="871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5 prisons, 3423 pris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4 regional probation departments, 7027 probationers + pre-sentenc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800 of staff, including 217 probation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isons and probation departments united since 2008 into o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94760" cy="575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40360" y="587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Arial"/>
              </a:rPr>
              <a:t>Latvia </a:t>
            </a:r>
            <a:r>
              <a:rPr b="0" lang="et-EE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prob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44280"/>
            <a:ext cx="3394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280" y="177300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arole + electronic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 as a measure for juven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ation of criminal proceedings with 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lectronic monitoring  as  a separate alternative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raining of pris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ge of Justice of the 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n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adem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cur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only institution of educatio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son officials with a professional education for th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Estonian Pris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llege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higher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ducating future middle and senior level prison offic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tional edu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secondary education –guards and senior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rganization of various courses for prison officials in while in service for maintaining and improving their professional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Requirements for probation off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1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igher education (min 3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pedago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rrection (College ofJusti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ropriate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degree an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ystem of in-service trai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J Penitentiary Department has a leading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rrectional College responsible for organisation of trainings for all prison officials (incl probation offic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ual training plan is drafted and agreed and implemented by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llege involves needed specialists, lecturers for the delivery of the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5:04Z</dcterms:created>
  <dc:creator>indrek Saarmets</dc:creator>
  <dc:description/>
  <dc:language>en-US</dc:language>
  <cp:lastModifiedBy>rait.kuuse</cp:lastModifiedBy>
  <dcterms:modified xsi:type="dcterms:W3CDTF">2010-12-15T07:12:52Z</dcterms:modified>
  <cp:revision>31</cp:revision>
  <dc:subject/>
  <dc:title>Viru Vangla arengukava</dc:title>
</cp:coreProperties>
</file>